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C97-DA44-4066-97A8-FE6AF1C2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1A6-784C-4CD0-9D2A-632CD63D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9A5-5518-44C5-BF37-2AC8C038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9BD-05CC-40CC-AAEB-D21D2C99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5BC1-B7A4-4FFF-8C98-59F462B2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4331-B0CD-4B85-804B-AF91183A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8515-629F-4C40-9F22-3F36F52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2BB7-B69C-448C-B503-7A80A446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C9D-9CDE-4029-B2B3-36B091A4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E23-5F8D-411B-BF2C-801F877B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0467-4B0D-4F7D-969C-2A3DA98B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667-27A2-4CE6-A7BD-9032795A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0171-D444-49B2-A5E1-B7E7C24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1900-19F5-4CBD-8290-DBACCF9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AAB8-430E-4B23-A669-A5D0E09E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D7CA-B2D1-4AFC-8997-B64874AF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FC5B-809B-4039-A3A0-EF46A334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D20-A0AC-4A7A-ADFA-4BAE9B3A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E5F-B87B-4E0D-9642-2556D97B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126-6988-4066-88E6-66556D2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A39-C510-4206-90AC-04E43BE7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7E2-2AC1-4971-B762-CD682FF7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679-EF61-4EBA-AEFE-4CE22BD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437-9708-4968-80B6-0B236DC8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6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0000"/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00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00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F37-0961-4D94-887E-4D05E675C0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A47-0B56-4A56-AF6A-D4C30079B0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SzPct val="65000"/>
              <a:buFont typeface="Webdings" charset="2"/>
              <a:buChar char="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cc00"/>
              </a:buClr>
              <a:buSzPct val="70000"/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ffcc00"/>
              </a:buClr>
              <a:buSzPct val="55000"/>
              <a:buFont typeface="Webdings" charset="2"/>
              <a:buChar char="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ff00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ff0000"/>
              </a:buClr>
              <a:buSzPct val="55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772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SPOT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lide Presentation Over Telephony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4724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S 790 Project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How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Fin!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Presentation Archive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65000"/>
              <a:buFont typeface="Webding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c00"/>
              </a:buClr>
              <a:buSzPct val="70000"/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 is SPOT?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TX application suite for creating and playing slide presentations with synchronized streaming au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applic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T 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T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Features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extensive use of the ITX telephony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both local and remote presentation view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e presentations are created from PowerPoint presen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a user to move back and forth within the presentation via an interface similar to that of a CD play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Wizard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reate new slide presentations from an existing PowerPoint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D player interface is used to navigate through the PowerPoint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two f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 File - Raw Audio Data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 File - Presentation Audio Mapping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Client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view the slide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can view local presentations created by a SPOT Wizard or remote presentations served by a SPOT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D player interface is used to navigate through the SPOT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SPOT Server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s a SPOT presentation to a SPOT cl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upport multiple clients simultaneous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the SPOT suite is based on the ITX telephony package, audio can be streamed to the SPOT client machine or to a teleph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How Does It Work?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ser surfs the Web to a SPOT Presentation Archive and then downloads a SPOT file, which contains information on all of the SPOT servers that can serve the particular SPOT presentation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r then starts a SPOT cli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2760" y="21337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POT client uses the SPOT file to present a list of SPOT servers to the use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connects to a SPOT server, which then serves a slide presentation with synchronized audio streamed over telephon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The Big Picture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509840" y="5634000"/>
            <a:ext cx="10666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804760" y="4338360"/>
            <a:ext cx="1295280" cy="160020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4600" y="5253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057400"/>
            <a:ext cx="10666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5319720" y="3195360"/>
            <a:ext cx="1295280" cy="160020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800" y="3500280"/>
            <a:ext cx="1600200" cy="152424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T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39040" y="2357280"/>
            <a:ext cx="10666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1840" y="3957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4100000">
            <a:off x="2733480" y="2913840"/>
            <a:ext cx="1447560" cy="30492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51320" y="270504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Point file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The Technologies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Point COM Auto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power the Wizard and Client GU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POT audio file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M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all information needed to playback the slide 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eb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X Telephony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stream audio to either a client machine or teleph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03:03:28Z</dcterms:created>
  <dc:creator>Jason Howes</dc:creator>
  <dc:description/>
  <dc:language>en-US</dc:language>
  <cp:lastModifiedBy>Jason Howes</cp:lastModifiedBy>
  <dcterms:modified xsi:type="dcterms:W3CDTF">1999-03-30T20:40:04Z</dcterms:modified>
  <cp:revision>33</cp:revision>
  <dc:subject/>
  <dc:title>SPOT Slide Presentation Over Telephony</dc:title>
</cp:coreProperties>
</file>